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776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900" spc="-1" strike="noStrike">
                <a:solidFill>
                  <a:srgbClr val="000000"/>
                </a:solidFill>
                <a:latin typeface="Tw Cen MT Condensed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ftr" idx="5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055B83-A7BC-4510-B3A1-9E7B3AA66D3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DA001C-D3F9-49B3-B1AE-88F97A3933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AAD4B0-827F-4F47-B739-FE5F16EC979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6FFF0A-9175-467F-996C-285FFD784B2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21661A-94B5-4A21-9348-35407F87DD6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4F68B9-4269-49AD-B43F-9F4446F1C1B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86D2A6-2E04-4DCB-8956-DACF3FB8415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2873BF-A327-4B59-8452-AA7428BB7C6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F4F29D-701B-4619-A537-09AA6456CE6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AABE49-6506-43FF-B186-D9A6A609109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F56BB4-68C7-4D52-B2E9-0965CD21D22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1BFF50-2F7B-46C5-BC11-BA1C126B7B7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0A0AD9-1CB4-4036-9927-E9B99B7FAEF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C888E1-0209-42F1-AF04-A4BA38C6C77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409196-5AB3-4F53-80B5-0E6B4367297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733662-AFA6-4F95-AC0F-EB16AB6B7F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B70590-F545-4EA4-BC49-28856CC087F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E9F300-1B0F-4A6A-A424-B4C45407760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BF7434-7DED-4C83-9963-17B01B9F75E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BC8916-0A19-44D9-BD27-7DBDF3E23C4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DB3EA2-E67C-4ADF-B9BD-41EAE5FF7C0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5627BC-0238-48A0-81BD-D949DE33561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D37936-E92B-4231-904E-11209CCD28B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AB8652-A4B3-41E7-AC65-F97E8FE11DD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A13430-DF71-40F3-9D59-68BA85296A8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587BF0-9749-41BA-BF4A-C4237D80FB5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CE9B10-74A0-4919-8BD8-2FF419F398E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CE4102-CBC8-441E-BB14-28F62DD4A7D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C45279-81E3-49C3-B11C-83E9E2B9F33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9B9503-5058-444D-9EEE-F1FFF71D10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41E0F9-63B9-4EE3-9693-49E3185E134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F8CAA9-3691-433D-A320-0C8B7EE568E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4ABA65-DF9A-4826-AB11-246A5768200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47E6A0-9F66-4AF7-8ACA-5F10BB9A000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BA66B5-482A-43B7-8AA2-279B8B3E952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7B3938-F391-4489-8570-9540EE7C488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B2D129-59C4-4265-989A-0FEAE76D126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82854D-8D2E-4B11-8633-CA9B41FEBC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759B24-A8CF-46BA-8545-A32423156A6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810C78-ED2F-412E-BB62-BAF8DDF95CE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8FE83F-814B-4DAC-8FB5-6D1B8E854E0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7C12BF-F002-4A73-BE28-D3BA6578879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DDCECB-D9AC-4C10-8EE0-9546F04CABD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1CEF90-7F81-4AE3-A59C-AE18A089A43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CF1FEA-002A-4E7F-BA68-193FAB538CC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5FB0CB-E171-488B-BB78-1F5E12DBE6C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1B62FC-01B6-4E36-9BFC-955C6CC19D0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81601A-8D5D-4123-A868-CB7951DEBE6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BBE1C8-D889-4D5F-879D-88DD4DB727F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9B2FAA-B504-41C1-8E63-F33CAD1A8DF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C2921B-3487-44F9-9C93-2923BEFEA1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AD77AD-40E9-441D-AB1A-0D8B4519422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FB61CF-567C-4C39-BDEE-C3FF7033B38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5ED9BE-9AB2-4BAA-8B5B-E5AE0DB87C1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23C2D1-D57E-426B-8353-9CD4B71E5AF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F6DC87-C8C8-4FB4-8A7A-A2C662CEE3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4120" y="274320"/>
            <a:ext cx="8567640" cy="12603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55640" y="1871640"/>
            <a:ext cx="8569440" cy="2542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55640" y="4656240"/>
            <a:ext cx="8569440" cy="2542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4120" y="274320"/>
            <a:ext cx="8567640" cy="12603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55640" y="1871640"/>
            <a:ext cx="4181760" cy="2542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46920" y="1871640"/>
            <a:ext cx="4181760" cy="2542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55640" y="4656240"/>
            <a:ext cx="4181760" cy="2542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46920" y="4656240"/>
            <a:ext cx="4181760" cy="2542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44120" y="274320"/>
            <a:ext cx="8567640" cy="12603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55640" y="1871640"/>
            <a:ext cx="2759040" cy="2542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52920" y="1871640"/>
            <a:ext cx="2759040" cy="2542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50560" y="1871640"/>
            <a:ext cx="2759040" cy="2542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55640" y="4656240"/>
            <a:ext cx="2759040" cy="2542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52920" y="4656240"/>
            <a:ext cx="2759040" cy="2542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50560" y="4656240"/>
            <a:ext cx="2759040" cy="2542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4120" y="274320"/>
            <a:ext cx="8567640" cy="12603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55640" y="1871640"/>
            <a:ext cx="8569440" cy="53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4120" y="274320"/>
            <a:ext cx="8567640" cy="12603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55640" y="1871640"/>
            <a:ext cx="8569440" cy="5330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4120" y="274320"/>
            <a:ext cx="8567640" cy="12603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55640" y="1871640"/>
            <a:ext cx="4181760" cy="5330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46920" y="1871640"/>
            <a:ext cx="4181760" cy="5330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4120" y="274320"/>
            <a:ext cx="8567640" cy="12603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44120" y="274320"/>
            <a:ext cx="856764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4120" y="274320"/>
            <a:ext cx="8567640" cy="12603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55640" y="1871640"/>
            <a:ext cx="4181760" cy="2542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46920" y="1871640"/>
            <a:ext cx="4181760" cy="5330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55640" y="4656240"/>
            <a:ext cx="4181760" cy="2542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4120" y="274320"/>
            <a:ext cx="8567640" cy="12603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55640" y="1871640"/>
            <a:ext cx="8569440" cy="53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4120" y="274320"/>
            <a:ext cx="8567640" cy="12603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55640" y="1871640"/>
            <a:ext cx="4181760" cy="5330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46920" y="1871640"/>
            <a:ext cx="4181760" cy="2542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46920" y="4656240"/>
            <a:ext cx="4181760" cy="2542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4120" y="274320"/>
            <a:ext cx="8567640" cy="12603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55640" y="1871640"/>
            <a:ext cx="4181760" cy="2542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46920" y="1871640"/>
            <a:ext cx="4181760" cy="2542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55640" y="4656240"/>
            <a:ext cx="8569440" cy="2542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4120" y="274320"/>
            <a:ext cx="8567640" cy="12603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55640" y="1871640"/>
            <a:ext cx="8569440" cy="2542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55640" y="4656240"/>
            <a:ext cx="8569440" cy="2542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4120" y="274320"/>
            <a:ext cx="8567640" cy="12603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5640" y="1871640"/>
            <a:ext cx="4181760" cy="2542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46920" y="1871640"/>
            <a:ext cx="4181760" cy="2542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55640" y="4656240"/>
            <a:ext cx="4181760" cy="2542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46920" y="4656240"/>
            <a:ext cx="4181760" cy="2542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4120" y="274320"/>
            <a:ext cx="8567640" cy="12603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55640" y="1871640"/>
            <a:ext cx="2759040" cy="2542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52920" y="1871640"/>
            <a:ext cx="2759040" cy="2542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50560" y="1871640"/>
            <a:ext cx="2759040" cy="2542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55640" y="4656240"/>
            <a:ext cx="2759040" cy="2542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52920" y="4656240"/>
            <a:ext cx="2759040" cy="2542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50560" y="4656240"/>
            <a:ext cx="2759040" cy="2542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4120" y="274320"/>
            <a:ext cx="8567640" cy="12603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55640" y="1871640"/>
            <a:ext cx="8569440" cy="53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4120" y="274320"/>
            <a:ext cx="8567640" cy="12603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55640" y="1871640"/>
            <a:ext cx="8569440" cy="5330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4120" y="274320"/>
            <a:ext cx="8567640" cy="12603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55640" y="1871640"/>
            <a:ext cx="4181760" cy="5330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46920" y="1871640"/>
            <a:ext cx="4181760" cy="5330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44120" y="274320"/>
            <a:ext cx="8567640" cy="12603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4120" y="274320"/>
            <a:ext cx="8567640" cy="12603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55640" y="1871640"/>
            <a:ext cx="8569440" cy="5330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744120" y="274320"/>
            <a:ext cx="856764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44120" y="274320"/>
            <a:ext cx="8567640" cy="12603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55640" y="1871640"/>
            <a:ext cx="4181760" cy="2542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46920" y="1871640"/>
            <a:ext cx="4181760" cy="5330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55640" y="4656240"/>
            <a:ext cx="4181760" cy="2542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44120" y="274320"/>
            <a:ext cx="8567640" cy="12603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55640" y="1871640"/>
            <a:ext cx="4181760" cy="5330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46920" y="1871640"/>
            <a:ext cx="4181760" cy="2542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146920" y="4656240"/>
            <a:ext cx="4181760" cy="2542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44120" y="274320"/>
            <a:ext cx="8567640" cy="12603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55640" y="1871640"/>
            <a:ext cx="4181760" cy="2542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46920" y="1871640"/>
            <a:ext cx="4181760" cy="2542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55640" y="4656240"/>
            <a:ext cx="8569440" cy="2542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44120" y="274320"/>
            <a:ext cx="8567640" cy="12603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55640" y="1871640"/>
            <a:ext cx="8569440" cy="2542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755640" y="4656240"/>
            <a:ext cx="8569440" cy="2542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44120" y="274320"/>
            <a:ext cx="8567640" cy="12603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5640" y="1871640"/>
            <a:ext cx="4181760" cy="2542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46920" y="1871640"/>
            <a:ext cx="4181760" cy="2542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55640" y="4656240"/>
            <a:ext cx="4181760" cy="2542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146920" y="4656240"/>
            <a:ext cx="4181760" cy="2542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44120" y="274320"/>
            <a:ext cx="8567640" cy="12603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55640" y="1871640"/>
            <a:ext cx="2759040" cy="2542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2920" y="1871640"/>
            <a:ext cx="2759040" cy="2542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550560" y="1871640"/>
            <a:ext cx="2759040" cy="2542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755640" y="4656240"/>
            <a:ext cx="2759040" cy="2542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652920" y="4656240"/>
            <a:ext cx="2759040" cy="2542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550560" y="4656240"/>
            <a:ext cx="2759040" cy="2542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A802-C739-4E59-B1A1-9E6A7E689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44120" y="274320"/>
            <a:ext cx="8567640" cy="12603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755640" y="1871640"/>
            <a:ext cx="8569440" cy="53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8489-8D66-41B2-AA82-BC27CCEF0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44120" y="274320"/>
            <a:ext cx="8567640" cy="12603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55640" y="1871640"/>
            <a:ext cx="8569440" cy="5330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C379-C2EC-45C3-B36C-A8C2616E6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4120" y="274320"/>
            <a:ext cx="8567640" cy="12603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55640" y="1871640"/>
            <a:ext cx="4181760" cy="5330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6920" y="1871640"/>
            <a:ext cx="4181760" cy="5330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4120" y="274320"/>
            <a:ext cx="8567640" cy="12603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55640" y="1871640"/>
            <a:ext cx="4181760" cy="5330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146920" y="1871640"/>
            <a:ext cx="4181760" cy="5330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01BC-0A04-45C0-B5EF-B52A4EC18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44120" y="274320"/>
            <a:ext cx="8567640" cy="12603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3686-D198-40E9-A82D-9A516DD3B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744120" y="274320"/>
            <a:ext cx="856764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C24D-0BF4-43F3-B100-ACB1E7DA6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44120" y="274320"/>
            <a:ext cx="8567640" cy="12603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55640" y="1871640"/>
            <a:ext cx="4181760" cy="2542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46920" y="1871640"/>
            <a:ext cx="4181760" cy="5330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55640" y="4656240"/>
            <a:ext cx="4181760" cy="2542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A5DC-3D63-4237-91E8-274B81C9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44120" y="274320"/>
            <a:ext cx="8567640" cy="12603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55640" y="1871640"/>
            <a:ext cx="4181760" cy="5330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46920" y="1871640"/>
            <a:ext cx="4181760" cy="2542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146920" y="4656240"/>
            <a:ext cx="4181760" cy="2542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79A8-61B7-4EB2-A5E3-E112F617B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44120" y="274320"/>
            <a:ext cx="8567640" cy="12603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55640" y="1871640"/>
            <a:ext cx="4181760" cy="2542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46920" y="1871640"/>
            <a:ext cx="4181760" cy="2542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55640" y="4656240"/>
            <a:ext cx="8569440" cy="2542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2122-2BF1-4E37-BBE1-519FB898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44120" y="274320"/>
            <a:ext cx="8567640" cy="12603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5640" y="1871640"/>
            <a:ext cx="8569440" cy="2542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755640" y="4656240"/>
            <a:ext cx="8569440" cy="2542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71C4-D151-4603-8E41-F963C4037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44120" y="274320"/>
            <a:ext cx="8567640" cy="12603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55640" y="1871640"/>
            <a:ext cx="4181760" cy="2542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46920" y="1871640"/>
            <a:ext cx="4181760" cy="2542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755640" y="4656240"/>
            <a:ext cx="4181760" cy="2542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146920" y="4656240"/>
            <a:ext cx="4181760" cy="2542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6276-7D34-474C-AB14-95FD656B2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44120" y="274320"/>
            <a:ext cx="8567640" cy="12603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55640" y="1871640"/>
            <a:ext cx="2759040" cy="2542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652920" y="1871640"/>
            <a:ext cx="2759040" cy="2542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550560" y="1871640"/>
            <a:ext cx="2759040" cy="2542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755640" y="4656240"/>
            <a:ext cx="2759040" cy="2542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652920" y="4656240"/>
            <a:ext cx="2759040" cy="2542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550560" y="4656240"/>
            <a:ext cx="2759040" cy="2542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88ED-7FC7-4378-927F-BA7546C6B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4120" y="274320"/>
            <a:ext cx="8567640" cy="12603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44120" y="274320"/>
            <a:ext cx="856764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4120" y="274320"/>
            <a:ext cx="8567640" cy="12603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55640" y="1871640"/>
            <a:ext cx="4181760" cy="2542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6920" y="1871640"/>
            <a:ext cx="4181760" cy="5330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55640" y="4656240"/>
            <a:ext cx="4181760" cy="2542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4120" y="274320"/>
            <a:ext cx="8567640" cy="12603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55640" y="1871640"/>
            <a:ext cx="4181760" cy="5330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6920" y="1871640"/>
            <a:ext cx="4181760" cy="2542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6920" y="4656240"/>
            <a:ext cx="4181760" cy="2542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4120" y="274320"/>
            <a:ext cx="8567640" cy="12603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55640" y="1871640"/>
            <a:ext cx="4181760" cy="2542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6920" y="1871640"/>
            <a:ext cx="4181760" cy="2542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55640" y="4656240"/>
            <a:ext cx="8569440" cy="2542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755640" cy="7558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1590840"/>
            <a:ext cx="5208480" cy="16812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755640" y="7307280"/>
            <a:ext cx="3863880" cy="250920"/>
          </a:xfrm>
          <a:prstGeom prst="rect">
            <a:avLst/>
          </a:prstGeom>
          <a:gradFill rotWithShape="0">
            <a:gsLst>
              <a:gs pos="0">
                <a:srgbClr val="818181"/>
              </a:gs>
              <a:gs pos="50000">
                <a:srgbClr val="cccccc"/>
              </a:gs>
              <a:gs pos="100000">
                <a:srgbClr val="81818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841320" y="498600"/>
            <a:ext cx="9239400" cy="839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4120" y="274320"/>
            <a:ext cx="8567640" cy="12603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w Cen MT Condensed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755640" y="1871640"/>
            <a:ext cx="8569440" cy="5330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250920">
              <a:spcBef>
                <a:spcPts val="774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-2509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266920" indent="-250920">
              <a:spcBef>
                <a:spcPts val="774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266920" indent="-2509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266920" indent="-2509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1595520" cy="755820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1595520"/>
            <a:ext cx="10078920" cy="1931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3863880"/>
            <a:ext cx="5208480" cy="16848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4120" y="274320"/>
            <a:ext cx="8567640" cy="12603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w Cen MT Condensed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55640" y="1871640"/>
            <a:ext cx="8569440" cy="5330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250920">
              <a:spcBef>
                <a:spcPts val="774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-2509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266920" indent="-250920">
              <a:spcBef>
                <a:spcPts val="774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266920" indent="-2509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266920" indent="-2509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0" y="0"/>
            <a:ext cx="755640" cy="7558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0" y="1590840"/>
            <a:ext cx="5208480" cy="16812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755640" y="7307280"/>
            <a:ext cx="3863880" cy="250920"/>
          </a:xfrm>
          <a:prstGeom prst="rect">
            <a:avLst/>
          </a:prstGeom>
          <a:gradFill rotWithShape="0">
            <a:gsLst>
              <a:gs pos="0">
                <a:srgbClr val="818181"/>
              </a:gs>
              <a:gs pos="50000">
                <a:srgbClr val="cccccc"/>
              </a:gs>
              <a:gs pos="100000">
                <a:srgbClr val="81818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841320" y="498600"/>
            <a:ext cx="9239400" cy="839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7"/>
          <p:cNvSpPr/>
          <p:nvPr/>
        </p:nvSpPr>
        <p:spPr>
          <a:xfrm>
            <a:off x="69840" y="77760"/>
            <a:ext cx="9937800" cy="73771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44120" y="274320"/>
            <a:ext cx="8567640" cy="12603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w Cen MT Condensed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55640" y="1871640"/>
            <a:ext cx="8569440" cy="5330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250920">
              <a:spcBef>
                <a:spcPts val="774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-2509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266920" indent="-250920">
              <a:spcBef>
                <a:spcPts val="774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266920" indent="-2509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266920" indent="-2509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0" y="0"/>
            <a:ext cx="755640" cy="7558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0" y="1590840"/>
            <a:ext cx="5208480" cy="16812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755640" y="7307280"/>
            <a:ext cx="3863880" cy="250920"/>
          </a:xfrm>
          <a:prstGeom prst="rect">
            <a:avLst/>
          </a:prstGeom>
          <a:gradFill rotWithShape="0">
            <a:gsLst>
              <a:gs pos="0">
                <a:srgbClr val="818181"/>
              </a:gs>
              <a:gs pos="50000">
                <a:srgbClr val="cccccc"/>
              </a:gs>
              <a:gs pos="100000">
                <a:srgbClr val="81818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841320" y="498600"/>
            <a:ext cx="9239400" cy="839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44120" y="274320"/>
            <a:ext cx="8567640" cy="12603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w Cen MT Condensed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55640" y="1871640"/>
            <a:ext cx="8569440" cy="5330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250920">
              <a:spcBef>
                <a:spcPts val="774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-2509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266920" indent="-250920">
              <a:spcBef>
                <a:spcPts val="774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266920" indent="-2509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266920" indent="-2509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3C4478-86A0-4289-8A6C-04F17BCB26D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2611440" y="1984320"/>
            <a:ext cx="4973760" cy="33624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" descr=""/>
          <p:cNvPicPr/>
          <p:nvPr/>
        </p:nvPicPr>
        <p:blipFill>
          <a:blip r:embed="rId2"/>
          <a:stretch/>
        </p:blipFill>
        <p:spPr>
          <a:xfrm>
            <a:off x="1236600" y="5546880"/>
            <a:ext cx="4103640" cy="77940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Tw Cen MT Condensed"/>
              </a:rPr>
              <a:t>HTML Advanced: HTML 5</a:t>
            </a:r>
            <a:endParaRPr b="0" lang="en-US" sz="49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Tw Cen MT Condensed"/>
              </a:rPr>
              <a:t>HTML5: Example</a:t>
            </a:r>
            <a:endParaRPr b="0" lang="en-US" sz="49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007640" y="1908000"/>
            <a:ext cx="8312040" cy="4886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0000"/>
                </a:solidFill>
                <a:latin typeface="Arial"/>
              </a:rPr>
              <a:t>HTML5 supports all the form controls from HTML 4, but it also includes new input controls.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0000"/>
                </a:solidFill>
                <a:latin typeface="Arial"/>
              </a:rPr>
              <a:t>Some of these are long-overdue additions like sliders and date pickers; others are more subtle... 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Tw Cen MT Condensed"/>
              </a:rPr>
              <a:t>HTML5: Example</a:t>
            </a:r>
            <a:endParaRPr b="0" lang="en-US" sz="49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007640" y="2050560"/>
            <a:ext cx="8312040" cy="4886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0000"/>
                </a:solidFill>
                <a:latin typeface="Arial"/>
              </a:rPr>
              <a:t>For example, the email input type looks just like a text box, but mobile browsers will customize their onscreen keyboard to make it easier to type email addresses. 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0000"/>
                </a:solidFill>
                <a:latin typeface="Arial"/>
              </a:rPr>
              <a:t>Older browsers that don’t support the email input type will treat it as a regular text field, and the form still works with no markup changes or scripting hacks.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Tw Cen MT Condensed"/>
              </a:rPr>
              <a:t>HTML5: DOCTYPE</a:t>
            </a:r>
            <a:endParaRPr b="0" lang="en-US" sz="49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295280" y="1979280"/>
            <a:ext cx="8312400" cy="4886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3366ff"/>
                </a:solidFill>
                <a:latin typeface="Arial"/>
              </a:rPr>
              <a:t>The DOCTYPE which comes before the beginning &lt;html&gt; tag is much simpler in HTML 5. Here are some examples of what it looks like now..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&lt;!DOCTYPE HTML PUBLIC "-//W3C//DTD HTML 4.01//EN" "http://www.w3.org/TR/html4/strict.dtd"&gt;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&lt;!DOCTYPE HTML PUBLIC "-//W3C//DTD HTML 4.01 Transitional//EN" "http://www.w3.org/TR/html4/loose.dtd"&gt;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&lt;!DOCTYPE html PUBLIC "-//W3C//DTD XHTML 1.1//EN" http://www.w3.org/TR/xhtml11/DTD/xhtml11.dtd&gt;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Tw Cen MT Condensed"/>
              </a:rPr>
              <a:t>HTML: DOCTYPE</a:t>
            </a:r>
            <a:endParaRPr b="0" lang="en-US" sz="49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152360" y="1908000"/>
            <a:ext cx="8312400" cy="4886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0000"/>
                </a:solidFill>
                <a:latin typeface="Arial"/>
              </a:rPr>
              <a:t>Previous versions of HTML defined a lot of doctypes, and choosing the right one could be tricky. In HTML5, there is only one doctype: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3366ff"/>
                </a:solidFill>
                <a:latin typeface="Arial"/>
              </a:rPr>
              <a:t>&lt;!DOCTYPE html&gt;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Tw Cen MT Condensed"/>
              </a:rPr>
              <a:t>HTML: Support</a:t>
            </a:r>
            <a:endParaRPr b="0" lang="en-US" sz="49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079280" y="1834920"/>
            <a:ext cx="8312040" cy="4886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0000"/>
                </a:solidFill>
                <a:latin typeface="Arial"/>
              </a:rPr>
              <a:t>Whether you want to draw on a canvas, play video, design better forms, or build web applications that work offline, HTML5 is already well-supported. 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Tw Cen MT Condensed"/>
              </a:rPr>
              <a:t>HTML: Support</a:t>
            </a:r>
            <a:endParaRPr b="0" lang="en-US" sz="49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223640" y="1834920"/>
            <a:ext cx="8312040" cy="4886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0000"/>
                </a:solidFill>
                <a:latin typeface="Arial"/>
              </a:rPr>
              <a:t>Firefox, Safari, Chrome, Opera, and mobile browsers already support canvas, video, geolocation, local storage, and more. 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0000"/>
                </a:solidFill>
                <a:latin typeface="Arial"/>
              </a:rPr>
              <a:t>Google already supports microdata annotations.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0000"/>
                </a:solidFill>
                <a:latin typeface="Arial"/>
              </a:rPr>
              <a:t>Even Microsoft supports most HTML5 features in Internet Explorer 9.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Tw Cen MT Condensed"/>
              </a:rPr>
              <a:t>HTML5: MIME types</a:t>
            </a:r>
            <a:endParaRPr b="0" lang="en-US" sz="49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008000" y="2050560"/>
            <a:ext cx="8204400" cy="4886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0000"/>
                </a:solidFill>
                <a:latin typeface="Arial"/>
              </a:rPr>
              <a:t>Every time your web browser requests a page, the web server sends “headers” before it sends the actual page markup. 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0000"/>
                </a:solidFill>
                <a:latin typeface="Arial"/>
              </a:rPr>
              <a:t>Headers are important, because they tell your browser how to interpret the page markup that follows.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3366ff"/>
                </a:solidFill>
                <a:latin typeface="Arial"/>
              </a:rPr>
              <a:t>MIME = Multipurpose Internet Mail Extensions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Tw Cen MT Condensed"/>
              </a:rPr>
              <a:t>HTML5: MIME types</a:t>
            </a:r>
            <a:endParaRPr b="0" lang="en-US" sz="49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863280" y="1908000"/>
            <a:ext cx="5715000" cy="4886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0000"/>
                </a:solidFill>
                <a:latin typeface="Arial"/>
              </a:rPr>
              <a:t>The most important header is called Content-Type, and it looks like this: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3366ff"/>
                </a:solidFill>
                <a:latin typeface="Arial"/>
              </a:rPr>
              <a:t>Content-Type: text/htm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3100" spc="-1" strike="noStrike">
                <a:solidFill>
                  <a:srgbClr val="000000"/>
                </a:solidFill>
                <a:latin typeface="Arial"/>
              </a:rPr>
              <a:t>text/html” is called the “content type” or “MIME type” of the page.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3" descr=""/>
          <p:cNvPicPr/>
          <p:nvPr/>
        </p:nvPicPr>
        <p:blipFill>
          <a:blip r:embed="rId1"/>
          <a:stretch/>
        </p:blipFill>
        <p:spPr>
          <a:xfrm>
            <a:off x="7043760" y="1812960"/>
            <a:ext cx="2184480" cy="490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Tw Cen MT Condensed"/>
              </a:rPr>
              <a:t>HTML5: MIME types</a:t>
            </a:r>
            <a:endParaRPr b="0" lang="en-US" sz="49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079280" y="1908000"/>
            <a:ext cx="8312040" cy="4886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Arial"/>
              </a:rPr>
              <a:t>This header is the only thing that determines what a particular resource truly is, and therefore how it should be rendered.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Arial"/>
              </a:rPr>
              <a:t>Images have their own MIME types (image/jpeg for JPEG images, image/png for PNG images, and so on). 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Arial"/>
              </a:rPr>
              <a:t>JavaScript files have their own MIME type. 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Arial"/>
              </a:rPr>
              <a:t>CSS stylesheets have their own MIME type. 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Arial"/>
              </a:rPr>
              <a:t>Everything has its own MIME type.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66ff"/>
                </a:solidFill>
                <a:latin typeface="Arial"/>
              </a:rPr>
              <a:t>The web runs on MIME types.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Tw Cen MT Condensed"/>
              </a:rPr>
              <a:t>HTML5: Detection</a:t>
            </a:r>
            <a:endParaRPr b="0" lang="en-US" sz="49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007640" y="1908000"/>
            <a:ext cx="8312040" cy="4886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Arial"/>
              </a:rPr>
              <a:t>When your browser renders a web page, it constructs a </a:t>
            </a:r>
            <a:r>
              <a:rPr b="1" lang="en-GB" sz="2900" spc="-1" strike="noStrike">
                <a:solidFill>
                  <a:srgbClr val="3366ff"/>
                </a:solidFill>
                <a:latin typeface="Arial"/>
              </a:rPr>
              <a:t>Document Object Model</a:t>
            </a:r>
            <a:r>
              <a:rPr b="1" lang="en-GB" sz="2900" spc="-1" strike="noStrike">
                <a:solidFill>
                  <a:srgbClr val="000000"/>
                </a:solidFill>
                <a:latin typeface="Arial"/>
              </a:rPr>
              <a:t>, a collection of objects that represent the HTML elements on the page. Every element  is represented in the DOM by a different object.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Arial"/>
              </a:rPr>
              <a:t>In browsers that support HTML5 features, certain objects will have unique properties.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Arial"/>
              </a:rPr>
              <a:t>A quick peek at the DOM will tell you which features are supported.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w Cen MT Condensed"/>
              </a:rPr>
              <a:t>Introduction to HTML 5</a:t>
            </a:r>
            <a:endParaRPr b="0" lang="en-US" sz="5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82" name="Text Box 2"/>
          <p:cNvSpPr/>
          <p:nvPr/>
        </p:nvSpPr>
        <p:spPr>
          <a:xfrm>
            <a:off x="1106640" y="1868400"/>
            <a:ext cx="7988040" cy="52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366ff"/>
                </a:solidFill>
                <a:latin typeface="Arial"/>
              </a:rPr>
              <a:t>These slides are based on source material found at the w3schools.com webs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Tw Cen MT Condensed"/>
              </a:rPr>
              <a:t>HTML5: Detection</a:t>
            </a:r>
            <a:endParaRPr b="0" lang="en-US" sz="49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152360" y="2050560"/>
            <a:ext cx="8312400" cy="4886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00"/>
                </a:solidFill>
                <a:latin typeface="Arial"/>
              </a:rPr>
              <a:t>[Modernizr]</a:t>
            </a:r>
            <a:r>
              <a:rPr b="1" lang="en-GB" sz="3100" spc="-1" strike="noStrike">
                <a:solidFill>
                  <a:srgbClr val="000000"/>
                </a:solidFill>
                <a:latin typeface="Arial"/>
              </a:rPr>
              <a:t> is an open source, MIT-licensed JavaScript library that detects support for many HTML5 &amp; CSS3 features. 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0000"/>
                </a:solidFill>
                <a:latin typeface="Arial"/>
              </a:rPr>
              <a:t>To use it, include the following &lt;script&gt; element at the top of your page...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Tw Cen MT Condensed"/>
              </a:rPr>
              <a:t>HTML5: Detection</a:t>
            </a:r>
            <a:endParaRPr b="0" lang="en-US" sz="49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295280" y="1908000"/>
            <a:ext cx="8312400" cy="4886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&lt;!DOCTYPE html&gt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&lt;head&gt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&lt;meta charset="utf-8"&gt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&lt;title&gt;HTML5 sure is fun&lt;/title&gt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&lt;script src="</a:t>
            </a:r>
            <a:r>
              <a:rPr b="1" lang="en-GB" sz="2600" spc="-1" strike="noStrike">
                <a:solidFill>
                  <a:srgbClr val="3366ff"/>
                </a:solidFill>
                <a:latin typeface="Arial"/>
              </a:rPr>
              <a:t>modernizr.min.js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"&gt;&lt;/script&gt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&lt;/head&gt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Tw Cen MT Condensed"/>
              </a:rPr>
              <a:t>HTML5: Detection</a:t>
            </a:r>
            <a:endParaRPr b="0" lang="en-US" sz="49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152360" y="1908000"/>
            <a:ext cx="8312400" cy="4886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0000"/>
                </a:solidFill>
                <a:latin typeface="Arial"/>
              </a:rPr>
              <a:t>Modernizr runs automatically.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0000"/>
                </a:solidFill>
                <a:latin typeface="Arial"/>
              </a:rPr>
              <a:t>When it runs, it creates a global object called Modernizr, that contains a set of Boolean properties for each feature it can detect.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0000"/>
                </a:solidFill>
                <a:latin typeface="Arial"/>
              </a:rPr>
              <a:t>For example, if your browser supports the canvas API, the Modernizr.canvas property will be true – otherwise the property will be false.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Tw Cen MT Condensed"/>
              </a:rPr>
              <a:t>HTML5: Detection</a:t>
            </a:r>
            <a:endParaRPr b="0" lang="en-US" sz="49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223640" y="1908000"/>
            <a:ext cx="8312040" cy="4886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0000"/>
                </a:solidFill>
                <a:latin typeface="Arial"/>
              </a:rPr>
              <a:t>if (Modernizr.canvas) {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3100" spc="-1" strike="noStrike">
                <a:solidFill>
                  <a:srgbClr val="000000"/>
                </a:solidFill>
                <a:latin typeface="Arial"/>
              </a:rPr>
              <a:t>// let's draw some shapes!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3100" spc="-1" strike="noStrike">
                <a:solidFill>
                  <a:srgbClr val="000000"/>
                </a:solidFill>
                <a:latin typeface="Arial"/>
              </a:rPr>
              <a:t>// no native canvas support available :(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0000"/>
                </a:solidFill>
                <a:latin typeface="Arial"/>
              </a:rPr>
              <a:t>More on HTML5 detection (and Modernizr) here: </a:t>
            </a:r>
            <a:r>
              <a:rPr b="1" lang="en-GB" sz="3100" spc="-1" strike="noStrike">
                <a:solidFill>
                  <a:srgbClr val="ffff00"/>
                </a:solidFill>
                <a:latin typeface="Arial"/>
              </a:rPr>
              <a:t>http://diveintohtml5.org/detect.htm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Tw Cen MT Condensed"/>
              </a:rPr>
              <a:t>HTML5: What's New</a:t>
            </a:r>
            <a:endParaRPr b="0" lang="en-US" sz="49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152360" y="1834920"/>
            <a:ext cx="8312400" cy="4886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internet has changed a lot since HTML 4.01 became a standard in 1999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day, some elements in HTML 4.01 are obsolete, never used, or not used the way they were intended to be. These elements are deleted or re-written in HTML5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TML5 also includes new elements for better structure, drawing, media content, form handling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Tw Cen MT Condensed"/>
              </a:rPr>
              <a:t>HTML5: What's New</a:t>
            </a:r>
            <a:endParaRPr b="0" lang="en-US" sz="49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223640" y="1979280"/>
            <a:ext cx="8312040" cy="4886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3366ff"/>
                </a:solidFill>
                <a:latin typeface="Arial"/>
              </a:rPr>
              <a:t>New elements list: </a:t>
            </a:r>
            <a:r>
              <a:rPr b="1" lang="en-GB" sz="3100" spc="-1" strike="noStrike">
                <a:solidFill>
                  <a:srgbClr val="ffff00"/>
                </a:solidFill>
                <a:latin typeface="Arial"/>
              </a:rPr>
              <a:t>http://www.w3schools.com/html5/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3366ff"/>
                </a:solidFill>
                <a:latin typeface="Arial"/>
              </a:rPr>
              <a:t>Some of the new markup elements are handy for creating better page structure. 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Tw Cen MT Condensed"/>
              </a:rPr>
              <a:t>HTML5: What's New</a:t>
            </a:r>
            <a:endParaRPr b="0" lang="en-US" sz="4900" spc="-1" strike="noStrike">
              <a:solidFill>
                <a:srgbClr val="000000"/>
              </a:solidFill>
              <a:latin typeface="Tw Cen MT Condensed"/>
            </a:endParaRPr>
          </a:p>
        </p:txBody>
      </p:sp>
      <p:pic>
        <p:nvPicPr>
          <p:cNvPr id="231" name="Picture 3" descr=""/>
          <p:cNvPicPr/>
          <p:nvPr/>
        </p:nvPicPr>
        <p:blipFill>
          <a:blip r:embed="rId1"/>
          <a:stretch/>
        </p:blipFill>
        <p:spPr>
          <a:xfrm>
            <a:off x="2222640" y="2523960"/>
            <a:ext cx="5511600" cy="406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Tw Cen MT Condensed"/>
              </a:rPr>
              <a:t>HTML5: Video</a:t>
            </a:r>
            <a:endParaRPr b="0" lang="en-US" sz="49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1079280" y="1908000"/>
            <a:ext cx="8312040" cy="4886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0000"/>
                </a:solidFill>
                <a:latin typeface="Arial"/>
              </a:rPr>
              <a:t>Until now, there hasn't been a standard for showing video on a web page.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0000"/>
                </a:solidFill>
                <a:latin typeface="Arial"/>
              </a:rPr>
              <a:t>Today, most videos are shown through a plugin (like Flash). However, not all browsers have the same plugins.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0000"/>
                </a:solidFill>
                <a:latin typeface="Arial"/>
              </a:rPr>
              <a:t>HTML5 specifies a standard way to include video with the video element.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Tw Cen MT Condensed"/>
              </a:rPr>
              <a:t>HTML5: Video</a:t>
            </a:r>
            <a:endParaRPr b="0" lang="en-US" sz="49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223640" y="1979280"/>
            <a:ext cx="8312040" cy="1376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0000"/>
                </a:solidFill>
                <a:latin typeface="Arial"/>
              </a:rPr>
              <a:t>Currently, there are 3 supported video formats for the video element: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3" descr=""/>
          <p:cNvPicPr/>
          <p:nvPr/>
        </p:nvPicPr>
        <p:blipFill>
          <a:blip r:embed="rId1"/>
          <a:stretch/>
        </p:blipFill>
        <p:spPr>
          <a:xfrm>
            <a:off x="1152360" y="3924360"/>
            <a:ext cx="8177400" cy="127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Tw Cen MT Condensed"/>
              </a:rPr>
              <a:t>HTML5: Video</a:t>
            </a:r>
            <a:endParaRPr b="0" lang="en-US" sz="49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079280" y="1908000"/>
            <a:ext cx="8312040" cy="4886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&lt;!DOCTYPE HTML&gt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3366ff"/>
                </a:solidFill>
                <a:latin typeface="Arial"/>
              </a:rPr>
              <a:t>&lt;video src="movie.ogg"  width="320" height="240" controls="controls"&gt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Your browser does not support the video tag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3366ff"/>
                </a:solidFill>
                <a:latin typeface="Arial"/>
              </a:rPr>
              <a:t>&lt;/video&gt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Tw Cen MT Condensed"/>
              </a:rPr>
              <a:t>HTML5: What is it?</a:t>
            </a:r>
            <a:endParaRPr b="0" lang="en-US" sz="49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975960" y="1827000"/>
            <a:ext cx="8312040" cy="4886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Arial"/>
              </a:rPr>
              <a:t>HTML5 will be the new standard for HTML, XHTML, and the HTML DOM (document object model).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Arial"/>
              </a:rPr>
              <a:t>The previous version of HTML came in 1999. The web has changed a lot since then.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Arial"/>
              </a:rPr>
              <a:t>HTML5 is still a work in progress, but most modern browsers have some HTML5 support.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Tw Cen MT Condensed"/>
              </a:rPr>
              <a:t>HTML5: Video</a:t>
            </a:r>
            <a:endParaRPr b="0" lang="en-US" sz="49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152360" y="1908000"/>
            <a:ext cx="8312400" cy="4886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last example uses an Ogg file, and will work in Firefox, Opera and Chrom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 make the video work in Safari and future versions of Chrome, we must add an MPEG4 and WebM fil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video element allows multiple source elements. Source elements can link to different video files. The browser will use the first recognized format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Tw Cen MT Condensed"/>
              </a:rPr>
              <a:t>HTML5: Video</a:t>
            </a:r>
            <a:endParaRPr b="0" lang="en-US" sz="49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1008000" y="1908000"/>
            <a:ext cx="8928000" cy="4886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&lt;video width="320" height="240" controls="controls"&gt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&lt;source src="movie.ogg" type="video/ogg" /&gt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&lt;source src="movie.mp4" type="video/mp4" /&gt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&lt;source src="movie.webm" type="video/webm" /&gt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Your browser does not support the video tag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&lt;/video&gt;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Tw Cen MT Condensed"/>
              </a:rPr>
              <a:t>HTML5: Video</a:t>
            </a:r>
            <a:endParaRPr b="0" lang="en-US" sz="49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223640" y="1979280"/>
            <a:ext cx="8312040" cy="4886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3366ff"/>
                </a:solidFill>
                <a:latin typeface="Arial"/>
              </a:rPr>
              <a:t>&lt;sarcasm&gt;Surprising fact...&lt;/sarcasm&gt;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0000"/>
                </a:solidFill>
                <a:latin typeface="Arial"/>
              </a:rPr>
              <a:t>Internet Explorer 8 does not support the video element. In IE 9, there will be support for video element using MPEG4.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Tw Cen MT Condensed"/>
              </a:rPr>
              <a:t>HTML5: Video</a:t>
            </a:r>
            <a:endParaRPr b="0" lang="en-US" sz="4900" spc="-1" strike="noStrike">
              <a:solidFill>
                <a:srgbClr val="000000"/>
              </a:solidFill>
              <a:latin typeface="Tw Cen MT Condensed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965160" y="2174760"/>
            <a:ext cx="8177400" cy="410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Tw Cen MT Condensed"/>
              </a:rPr>
              <a:t>HTML5: Audio</a:t>
            </a:r>
            <a:endParaRPr b="0" lang="en-US" sz="49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1152360" y="1908000"/>
            <a:ext cx="8312400" cy="4886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Until now, there has never been a standard for playing audio on a web pag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day, most audio is played through a plugin (like Flash). However, not all browsers have the same plugin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TML5 specifies a standard way to include audio, with the audio element. The audio element can play sound files, or an audio stream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Tw Cen MT Condensed"/>
              </a:rPr>
              <a:t>HTML5: Audio</a:t>
            </a:r>
            <a:endParaRPr b="0" lang="en-US" sz="49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936360" y="2195640"/>
            <a:ext cx="8312040" cy="152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0000"/>
                </a:solidFill>
                <a:latin typeface="Arial"/>
              </a:rPr>
              <a:t>Currently, there are 3 supported formats for the audio element: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3" descr=""/>
          <p:cNvPicPr/>
          <p:nvPr/>
        </p:nvPicPr>
        <p:blipFill>
          <a:blip r:embed="rId1"/>
          <a:stretch/>
        </p:blipFill>
        <p:spPr>
          <a:xfrm>
            <a:off x="932040" y="3898800"/>
            <a:ext cx="8151480" cy="135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Tw Cen MT Condensed"/>
              </a:rPr>
              <a:t>HTML5: Audio</a:t>
            </a:r>
            <a:endParaRPr b="0" lang="en-US" sz="49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1152360" y="1908000"/>
            <a:ext cx="8312400" cy="4886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&lt;!DOCTYPE HTML&gt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3366ff"/>
                </a:solidFill>
                <a:latin typeface="Arial"/>
              </a:rPr>
              <a:t>&lt;audio src="song.ogg" controls="controls"&gt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Your browser does not support the audio element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3366ff"/>
                </a:solidFill>
                <a:latin typeface="Arial"/>
              </a:rPr>
              <a:t>&lt;/audio&gt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Tw Cen MT Condensed"/>
              </a:rPr>
              <a:t>HTML5: Audio</a:t>
            </a:r>
            <a:endParaRPr b="0" lang="en-US" sz="49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1152360" y="1908000"/>
            <a:ext cx="8312400" cy="4886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0000"/>
                </a:solidFill>
                <a:latin typeface="Arial"/>
              </a:rPr>
              <a:t>The last example uses an Ogg file, and will work in Firefox, Opera and Chrome.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0000"/>
                </a:solidFill>
                <a:latin typeface="Arial"/>
              </a:rPr>
              <a:t>To make the audio work in Safari, the audio file must be of type MP3 or Wav.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0000"/>
                </a:solidFill>
                <a:latin typeface="Arial"/>
              </a:rPr>
              <a:t>The audio element allows multiple source elements. Source elements can link to different audio files. The browser will use the first recognized format.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Tw Cen MT Condensed"/>
              </a:rPr>
              <a:t>HTML5: Audio</a:t>
            </a:r>
            <a:endParaRPr b="0" lang="en-US" sz="49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079280" y="1908000"/>
            <a:ext cx="8312040" cy="4886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&lt;audio controls="controls"&gt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&lt;source src="song.ogg" type="audio/ogg" /&gt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&lt;source src="song.mp3" type="audio/mpeg" /&gt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Your browser does not support the audio elemen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&lt;/audio&gt;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Tw Cen MT Condensed"/>
              </a:rPr>
              <a:t>HTML5: Audio</a:t>
            </a:r>
            <a:endParaRPr b="0" lang="en-US" sz="49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1007640" y="1979280"/>
            <a:ext cx="8312040" cy="4886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3366ff"/>
                </a:solidFill>
                <a:latin typeface="Arial"/>
              </a:rPr>
              <a:t>Another fact: </a:t>
            </a:r>
            <a:r>
              <a:rPr b="1" lang="en-GB" sz="3100" spc="-1" strike="noStrike">
                <a:solidFill>
                  <a:srgbClr val="000000"/>
                </a:solidFill>
                <a:latin typeface="Arial"/>
              </a:rPr>
              <a:t>Internet Explorer 8 does not support the audio element. In IE 9, there will be support for audio element.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Tw Cen MT Condensed"/>
              </a:rPr>
              <a:t>HTML5: Origins</a:t>
            </a:r>
            <a:endParaRPr b="0" lang="en-US" sz="49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936360" y="1989000"/>
            <a:ext cx="8312040" cy="4886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0000"/>
                </a:solidFill>
                <a:latin typeface="Arial"/>
              </a:rPr>
              <a:t>HTML5 is a cooperation between the World Wide Web Consortium (W3C) and the Web Hypertext Application Technology Working Group (WHATWG).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0000"/>
                </a:solidFill>
                <a:latin typeface="Arial"/>
              </a:rPr>
              <a:t>WHATWG was working with web forms and applications, and W3C was working with XHTML 2.0. In 2006, they decided to cooperate and create a new version of HTML.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Tw Cen MT Condensed"/>
              </a:rPr>
              <a:t>HTML5: Audio</a:t>
            </a:r>
            <a:endParaRPr b="0" lang="en-US" sz="4900" spc="-1" strike="noStrike">
              <a:solidFill>
                <a:srgbClr val="000000"/>
              </a:solidFill>
              <a:latin typeface="Tw Cen MT Condensed"/>
            </a:endParaRPr>
          </a:p>
        </p:txBody>
      </p:sp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946080" y="2736720"/>
            <a:ext cx="8215560" cy="27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Tw Cen MT Condensed"/>
              </a:rPr>
              <a:t>HTML5: Canvas</a:t>
            </a:r>
            <a:endParaRPr b="0" lang="en-US" sz="49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1152360" y="1908000"/>
            <a:ext cx="8312400" cy="4886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0000"/>
                </a:solidFill>
                <a:latin typeface="Arial"/>
              </a:rPr>
              <a:t>The HTML5 canvas element uses JavaScript to draw graphics on a web page.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0000"/>
                </a:solidFill>
                <a:latin typeface="Arial"/>
              </a:rPr>
              <a:t>A canvas is a rectangular area, and you control every pixel of it.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0000"/>
                </a:solidFill>
                <a:latin typeface="Arial"/>
              </a:rPr>
              <a:t>The canvas element has several methods for drawing paths, boxes, circles, characters, and adding images.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Tw Cen MT Condensed"/>
              </a:rPr>
              <a:t>HTML5: Canvas</a:t>
            </a:r>
            <a:endParaRPr b="0" lang="en-US" sz="49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152360" y="1908000"/>
            <a:ext cx="8312400" cy="4886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0000"/>
                </a:solidFill>
                <a:latin typeface="Arial"/>
              </a:rPr>
              <a:t>Adding a canvas element to the HTML5 page.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0000"/>
                </a:solidFill>
                <a:latin typeface="Arial"/>
              </a:rPr>
              <a:t>Specify the id, width, height of the element: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3366ff"/>
                </a:solidFill>
                <a:latin typeface="Arial"/>
              </a:rPr>
              <a:t>&lt;canvas id="myCanvas" width="200" height="100"&gt;&lt;/canvas&gt; 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Tw Cen MT Condensed"/>
              </a:rPr>
              <a:t>HTML5: Canvas</a:t>
            </a:r>
            <a:endParaRPr b="0" lang="en-US" sz="49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079280" y="1908000"/>
            <a:ext cx="8312040" cy="4886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The canvas element has no drawing abilities of its own. All drawing must be done inside a JavaScript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&lt;script type="text/javascript"&gt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var c=document.getElementById("myCanvas")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var cxt=c.getContext("2d")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cxt.fillStyle="#FF0000"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cxt.fillRect(0,0,150,75)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&lt;/script&gt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00"/>
                </a:solidFill>
                <a:latin typeface="Arial"/>
              </a:rPr>
              <a:t>Visit the sandbox &gt;&gt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Tw Cen MT Condensed"/>
              </a:rPr>
              <a:t>HTML5: Web Storage</a:t>
            </a:r>
            <a:endParaRPr b="0" lang="en-US" sz="49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1007640" y="1979280"/>
            <a:ext cx="8312040" cy="4886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0000"/>
                </a:solidFill>
                <a:latin typeface="Arial"/>
              </a:rPr>
              <a:t>For information about web storage: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00"/>
                </a:solidFill>
                <a:latin typeface="Arial"/>
              </a:rPr>
              <a:t>http://www.w3schools.com/html5/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Tw Cen MT Condensed"/>
              </a:rPr>
              <a:t>HTML5: Input types</a:t>
            </a:r>
            <a:endParaRPr b="0" lang="en-US" sz="49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1152360" y="1908000"/>
            <a:ext cx="8312400" cy="4886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TML5 has several new input types for form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ur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ate pickers (date, month, week, time,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   datetime, datetime-local)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earc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Tw Cen MT Condensed"/>
              </a:rPr>
              <a:t>HTML5: Input e-mail</a:t>
            </a:r>
            <a:endParaRPr b="0" lang="en-US" sz="49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936720" y="1834920"/>
            <a:ext cx="8712000" cy="4886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email type is used for input fields that should contain an e-mail addres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value of the email field is automatically validated when the form is submitte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ff"/>
                </a:solidFill>
                <a:latin typeface="Arial"/>
              </a:rPr>
              <a:t>E-mail: &lt;input type="email" name="user_email" /&gt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ip: Safari on the iPhone recognizes the email input type, and changes the on-screen keyboard to match it (adds @ and .com options)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Tw Cen MT Condensed"/>
              </a:rPr>
              <a:t>HTML5: Input - url</a:t>
            </a:r>
            <a:endParaRPr b="0" lang="en-US" sz="49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1007640" y="1834920"/>
            <a:ext cx="8712360" cy="5257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url type is used for input fields that should contain a URL addres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value of the url field is automatically validated when the form is submitte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ff"/>
                </a:solidFill>
                <a:latin typeface="Arial"/>
              </a:rPr>
              <a:t>Homepage: &lt;input type="url" name="user_url" /&gt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ip: Safari on the iPhone recognizes the url input type, and changes the on-screen keyboard to match it (adds .com option)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Tw Cen MT Condensed"/>
              </a:rPr>
              <a:t>HTML5: Input - number</a:t>
            </a:r>
            <a:endParaRPr b="0" lang="en-US" sz="49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1008000" y="1627200"/>
            <a:ext cx="8785440" cy="2860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number type is used for input fields that should contain a numeric valu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et restrictions on what numbers are accepted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ff"/>
                </a:solidFill>
                <a:latin typeface="Arial"/>
              </a:rPr>
              <a:t>Points: &lt;input type="number" name="points" min="1" max="10" /&gt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3" descr=""/>
          <p:cNvPicPr/>
          <p:nvPr/>
        </p:nvPicPr>
        <p:blipFill>
          <a:blip r:embed="rId1"/>
          <a:stretch/>
        </p:blipFill>
        <p:spPr>
          <a:xfrm>
            <a:off x="919080" y="4807080"/>
            <a:ext cx="8177400" cy="181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Tw Cen MT Condensed"/>
              </a:rPr>
              <a:t>HTML5: Input - range</a:t>
            </a:r>
            <a:endParaRPr b="0" lang="en-US" sz="49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936720" y="1834920"/>
            <a:ext cx="8712000" cy="5257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range type is used for input fields that should contain a value from a range of number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range type is displayed as a slider bar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You can also set restrictions on what numbers are accepted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ff"/>
                </a:solidFill>
                <a:latin typeface="Arial"/>
              </a:rPr>
              <a:t>&lt;input type="range" name="points" min="1" max="10" /&gt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Tw Cen MT Condensed"/>
              </a:rPr>
              <a:t>HTML5: Ground Rules</a:t>
            </a:r>
            <a:endParaRPr b="0" lang="en-US" sz="49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007640" y="1989000"/>
            <a:ext cx="8312040" cy="4886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Arial"/>
              </a:rPr>
              <a:t>Some rules for HTML5 were established: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dc2300"/>
                </a:solidFill>
                <a:latin typeface="Arial"/>
              </a:rPr>
              <a:t>&gt;</a:t>
            </a:r>
            <a:r>
              <a:rPr b="1" lang="en-GB" sz="2900" spc="-1" strike="noStrike">
                <a:solidFill>
                  <a:srgbClr val="000000"/>
                </a:solidFill>
                <a:latin typeface="Arial"/>
              </a:rPr>
              <a:t> New features should be based on HTML,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900" spc="-1" strike="noStrike">
                <a:solidFill>
                  <a:srgbClr val="000000"/>
                </a:solidFill>
                <a:latin typeface="Arial"/>
              </a:rPr>
              <a:t>CSS, DOM, and JavaScript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dc2300"/>
                </a:solidFill>
                <a:latin typeface="Arial"/>
              </a:rPr>
              <a:t>&gt;</a:t>
            </a:r>
            <a:r>
              <a:rPr b="1" lang="en-GB" sz="2900" spc="-1" strike="noStrike">
                <a:solidFill>
                  <a:srgbClr val="000000"/>
                </a:solidFill>
                <a:latin typeface="Arial"/>
              </a:rPr>
              <a:t> Reduce the need for external plugins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dc2300"/>
                </a:solidFill>
                <a:latin typeface="Arial"/>
              </a:rPr>
              <a:t>&gt;</a:t>
            </a:r>
            <a:r>
              <a:rPr b="1" lang="en-GB" sz="2900" spc="-1" strike="noStrike">
                <a:solidFill>
                  <a:srgbClr val="000000"/>
                </a:solidFill>
                <a:latin typeface="Arial"/>
              </a:rPr>
              <a:t> Better error handling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dc2300"/>
                </a:solidFill>
                <a:latin typeface="Arial"/>
              </a:rPr>
              <a:t>&gt;</a:t>
            </a:r>
            <a:r>
              <a:rPr b="1" lang="en-GB" sz="2900" spc="-1" strike="noStrike">
                <a:solidFill>
                  <a:srgbClr val="000000"/>
                </a:solidFill>
                <a:latin typeface="Arial"/>
              </a:rPr>
              <a:t> More markup to replace scripting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dc2300"/>
                </a:solidFill>
                <a:latin typeface="Arial"/>
              </a:rPr>
              <a:t>&gt;</a:t>
            </a:r>
            <a:r>
              <a:rPr b="1" lang="en-GB" sz="2900" spc="-1" strike="noStrike">
                <a:solidFill>
                  <a:srgbClr val="000000"/>
                </a:solidFill>
                <a:latin typeface="Arial"/>
              </a:rPr>
              <a:t> HTML5 should be device independent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dc2300"/>
                </a:solidFill>
                <a:latin typeface="Arial"/>
              </a:rPr>
              <a:t>&gt;</a:t>
            </a:r>
            <a:r>
              <a:rPr b="1" lang="en-GB" sz="2900" spc="-1" strike="noStrike">
                <a:solidFill>
                  <a:srgbClr val="000000"/>
                </a:solidFill>
                <a:latin typeface="Arial"/>
              </a:rPr>
              <a:t> Dev process should be visible to the public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Tw Cen MT Condensed"/>
              </a:rPr>
              <a:t>HTML5: Input – date pickers</a:t>
            </a:r>
            <a:endParaRPr b="0" lang="en-US" sz="49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1007640" y="1835280"/>
            <a:ext cx="8712360" cy="5473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TML5 has several new input types for selecting date and tim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ate - Selects date, month and yea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onth - Selects month and yea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eek - Selects week and yea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ime - Selects time (hour and minute)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atetime - Selects time, date, month and yea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atetime-local - Selects time, date, month and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   year (local time)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Tw Cen MT Condensed"/>
              </a:rPr>
              <a:t>HTML5: Input - search</a:t>
            </a:r>
            <a:endParaRPr b="0" lang="en-US" sz="49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1152360" y="1908000"/>
            <a:ext cx="8312400" cy="4886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0000"/>
                </a:solidFill>
                <a:latin typeface="Arial"/>
              </a:rPr>
              <a:t>The search type is used for search fields like a site search or Google search.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0000"/>
                </a:solidFill>
                <a:latin typeface="Arial"/>
              </a:rPr>
              <a:t>The search field behaves like a regular text field.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Tw Cen MT Condensed"/>
              </a:rPr>
              <a:t>HTML5: Input – color picker</a:t>
            </a:r>
            <a:endParaRPr b="0" lang="en-US" sz="49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1079280" y="1908000"/>
            <a:ext cx="8312040" cy="4886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0000"/>
                </a:solidFill>
                <a:latin typeface="Arial"/>
              </a:rPr>
              <a:t>The color type is used for input fields that should contain a color.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0000"/>
                </a:solidFill>
                <a:latin typeface="Arial"/>
              </a:rPr>
              <a:t>This input type will allow you to select a color from a color picker: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366ff"/>
                </a:solidFill>
                <a:latin typeface="Arial"/>
              </a:rPr>
              <a:t>Color: &lt;input type="color" name="user_color" /&gt;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Tw Cen MT Condensed"/>
              </a:rPr>
              <a:t>HTML5: Input - form</a:t>
            </a:r>
            <a:endParaRPr b="0" lang="en-US" sz="49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1049040" y="1827360"/>
            <a:ext cx="8312040" cy="34113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0000"/>
                </a:solidFill>
                <a:latin typeface="Arial"/>
              </a:rPr>
              <a:t>HTML5 has several new elements and attributes for forms.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74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3100" spc="-1" strike="noStrike">
                <a:solidFill>
                  <a:srgbClr val="000000"/>
                </a:solidFill>
                <a:latin typeface="Arial"/>
              </a:rPr>
              <a:t>datalist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74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3100" spc="-1" strike="noStrike">
                <a:solidFill>
                  <a:srgbClr val="000000"/>
                </a:solidFill>
                <a:latin typeface="Arial"/>
              </a:rPr>
              <a:t>keygen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74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31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3" descr=""/>
          <p:cNvPicPr/>
          <p:nvPr/>
        </p:nvPicPr>
        <p:blipFill>
          <a:blip r:embed="rId1"/>
          <a:stretch/>
        </p:blipFill>
        <p:spPr>
          <a:xfrm>
            <a:off x="923760" y="5261040"/>
            <a:ext cx="8228160" cy="130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Tw Cen MT Condensed"/>
              </a:rPr>
              <a:t>HTML5: Form elements</a:t>
            </a:r>
            <a:endParaRPr b="0" lang="en-US" sz="49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152360" y="1908000"/>
            <a:ext cx="8312400" cy="4886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datalist element specifies a list of options for an input field.  The list is created with option elements inside the datalis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purpose of the keygen element is to provide a secure way to authenticate user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output element is used for different types of output, like calculations or script output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Tw Cen MT Condensed"/>
              </a:rPr>
              <a:t>HTML5: Reference</a:t>
            </a:r>
            <a:endParaRPr b="0" lang="en-US" sz="49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079280" y="1834920"/>
            <a:ext cx="8312040" cy="4886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00"/>
                </a:solidFill>
                <a:latin typeface="Arial"/>
              </a:rPr>
              <a:t>http://www.w3schools.com/html5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Tw Cen MT Condensed"/>
              </a:rPr>
              <a:t>HTML5: New Features</a:t>
            </a:r>
            <a:endParaRPr b="0" lang="en-US" sz="49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007640" y="1834920"/>
            <a:ext cx="8312040" cy="4886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marL="542880" indent="-542880">
              <a:spcBef>
                <a:spcPts val="774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0000"/>
                </a:solidFill>
                <a:latin typeface="Arial"/>
              </a:rPr>
              <a:t>Canvas element for drawing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spcBef>
                <a:spcPts val="774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0000"/>
                </a:solidFill>
                <a:latin typeface="Arial"/>
              </a:rPr>
              <a:t>Video/audio elements for media playback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spcBef>
                <a:spcPts val="774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0000"/>
                </a:solidFill>
                <a:latin typeface="Arial"/>
              </a:rPr>
              <a:t>Better support for local offline storage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spcBef>
                <a:spcPts val="774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0000"/>
                </a:solidFill>
                <a:latin typeface="Arial"/>
              </a:rPr>
              <a:t>New content specific elements, like article, footer, header, nav, section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spcBef>
                <a:spcPts val="774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0000"/>
                </a:solidFill>
                <a:latin typeface="Arial"/>
              </a:rPr>
              <a:t>New form controls, like calendar, date, time, email, url, search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Tw Cen MT Condensed"/>
              </a:rPr>
              <a:t>HTML5: Support</a:t>
            </a:r>
            <a:endParaRPr b="0" lang="en-US" sz="49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768320" y="1827000"/>
            <a:ext cx="8312400" cy="4886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0000"/>
                </a:solidFill>
                <a:latin typeface="Arial"/>
              </a:rPr>
              <a:t>HTML5 is not yet an official standard, and no browser has full HTML5 support.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0000"/>
                </a:solidFill>
                <a:latin typeface="Arial"/>
              </a:rPr>
              <a:t>Darn it.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Tw Cen MT Condensed"/>
              </a:rPr>
              <a:t>HTML5: Support</a:t>
            </a:r>
            <a:endParaRPr b="0" lang="en-US" sz="49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049040" y="1917360"/>
            <a:ext cx="8312040" cy="4886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0000"/>
                </a:solidFill>
                <a:latin typeface="Arial"/>
              </a:rPr>
              <a:t>You may well ask: “How can I start using HTML5 if older browsers don’t support it?” But the question itself is misleading.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0000"/>
                </a:solidFill>
                <a:latin typeface="Arial"/>
              </a:rPr>
              <a:t>HTML5 is not one big thing; it is a collection of individual features. You can only detect support for individual features, like canvas, video, or geolocation.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Tw Cen MT Condensed"/>
              </a:rPr>
              <a:t>HTML5: Support</a:t>
            </a:r>
            <a:endParaRPr b="0" lang="en-US" sz="49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079280" y="1834920"/>
            <a:ext cx="8312040" cy="4886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0000"/>
                </a:solidFill>
                <a:latin typeface="Arial"/>
              </a:rPr>
              <a:t>Love it or hate it, you can’t deny that HTML 4 is the most successful markup format ever. HTML5 builds on that success. 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0000"/>
                </a:solidFill>
                <a:latin typeface="Arial"/>
              </a:rPr>
              <a:t>You don’t need to throw away your existing markup. You don’t need to relearn things you already know.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0000"/>
                </a:solidFill>
                <a:latin typeface="Arial"/>
              </a:rPr>
              <a:t>If your web application worked yesterday in HTML 4, it will still work today in HTML5. Period.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iuseppe Attardi</cp:lastModifiedBy>
  <dcterms:modified xsi:type="dcterms:W3CDTF">2012-12-17T15:04:36Z</dcterms:modified>
  <cp:revision>9</cp:revision>
  <dc:subject/>
  <dc:title>HTML Advanced: HTML 5</dc:title>
</cp:coreProperties>
</file>